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32.wmf" ContentType="image/x-wmf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BC55-92AF-43D5-87D3-FBF40DF87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D26B-B5FE-4ED6-9652-05389E74C2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F30F-F2EF-4C56-910D-09C1299265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9C27-9D34-4816-8915-E11038470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F545-3D40-493E-9B46-5E37CFF5AB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0E2-8B8D-4A7E-878F-6CCEB028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85C-8795-413E-BDF9-D5B03032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8693-89DE-46FF-8CE9-2FB3A2B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9F646-75F2-4F62-9DB7-ADD1F5BA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5928D-E001-4725-9DCB-E2E26E5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202EC-BBCA-47E6-9D71-14E0CC5A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E2C5-0B1F-408D-A07D-3A63299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F940-FDFB-4395-A156-7D99640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8DEB0-FF68-4951-91C2-9FD0CAC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EE3F5-7A81-48F6-A8D2-2C79ACBB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C921-E965-43B7-A994-686689A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E2E0-31FC-46D0-A35E-A57C0F53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4AD-748E-479C-B4A9-55D929E7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821D2-BDDB-4058-83CB-343BD0B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29299-FD22-4366-A868-4E5D501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C6804-B660-4F0D-9CB1-640557A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D1F95-4253-4808-B348-80D21267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9546-DDA8-4B39-9794-7B85E8F7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5D31-825D-49C2-B338-910AB92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648B2-D96A-4CCC-85B9-573390F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68E46-25B0-42B8-B698-CAE387D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70B89-4F66-443C-AED0-5A9EE936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F4748-7F92-4478-8CAB-CCCAC17F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9E2-3F12-47E0-9BF2-B81581A5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F98F6-0A30-4758-9940-1D9B8963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A57DA-86BA-4117-A0ED-797343C9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BF53-1D40-425C-8563-820E44F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611B2-AA4A-474E-BAC3-F181F497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60FCE-D52A-46A5-A6F4-15C6E08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575CA-9980-497F-BE44-CD402706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5915F-DF4A-4C41-9288-07F49572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F77C7-C3A4-4FE2-A9B6-651E719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8798-95A8-4BF0-A0D6-555940D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A7FF0-814E-4553-8A2C-5BF05F3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CD1FF-C2E4-48C8-8561-13EF7D86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58A6F-A1F9-455E-9EA5-0CD7112E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57434-58F8-4A68-9EF9-7F574929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E369F-9B76-48B2-9FFC-92B900A8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7816-EABC-446B-9E36-69010AAA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C07C0-6F44-425B-8AD4-1A606E0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306C1-ED6D-4043-9792-B524BF92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176A3-0D57-4F5D-83E3-91775EE2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90E37-C3E9-4417-BF30-E0448389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BCFEC-2B0D-4135-ABF2-630D475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822E-8FAF-43BB-B398-7A7A4F90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4C288-0BB7-45BF-8A1B-B089771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347B5-8304-4B48-BDB9-3638B40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D6B10-68DC-45DA-92D7-4D7113B5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0849-1E80-4CEA-AD1D-9100ED31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FC29-E04C-488A-95E5-74D848F0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9DF2B-7897-4E01-AE9A-672F866A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05C54-1A75-4F33-988D-8213922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0C5FE-14E5-400E-A6AA-E57481E7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81DAE-DE5A-4D44-8C60-3C33CEA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8B240-D694-4B88-9B6A-9FC0CFE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8C389-262F-4ED1-8C1A-791321AD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3453E-883B-4BCB-8B98-CAA320F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14B51-6419-4F24-8463-51BF554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21879-71C6-43D2-A6B7-BEF2568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9A4EA-3100-4D65-8583-4E0398F5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A8296-BB42-472F-BEE0-347490B8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390-B42C-422E-AF84-AEA6817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A4A8-3ACD-4B18-8079-C30F416F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372-A709-4A8F-89CF-492878CB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9DAA-050A-4B59-8DFA-6929159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5627-5F6F-4647-8251-958526BE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E1B8-9AA4-4423-8612-7B69F5AC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9CB-4321-4753-AAB0-25C78AFF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FD25-54DF-4872-9200-7B780EC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A07-CE6B-4B09-8055-9221498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F26E-853D-4541-9CCC-CF2B1AA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77B0-013D-4979-B261-B5DFC48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4BAC-0CD1-4E0E-85A9-23CE9ECF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237-8F42-41B6-BAE1-98777C4B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6E2-38AD-49C1-A309-0FADCD3C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5677-3E1C-4D89-8453-EC9ADFFC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2128-947D-44E8-844F-09688734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E9B0-DB7F-4C1A-98C8-5DE071F2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740-C58F-4BA2-9400-71CFF76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8810-67C9-49B9-8738-50B11564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02435-1F57-4AD3-8BD7-E9E27822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5E21-9AA3-4122-8F55-4DC833E2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3EA7-1985-4F70-8B37-A237C80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062B-89EE-4EBC-9996-B4EAC4B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10E9-EBB3-4CD5-B87D-CE2C9AB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7AD7-FBEF-4E3F-9978-FA81D74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BAE9-F38C-4B37-B536-B5B19ADE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25B4-D3CC-4F05-9564-4C93EB3C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6EF2-92B6-446F-BE98-4098DC7D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CFB-F700-46EF-A795-EBBBC44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738F-33D4-49BE-825A-6F14E1E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C159-AFA2-4654-8241-9403449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CA8F7-BD7E-4B0E-851D-2F0F0DC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06C6-2A5B-4BE1-866E-923FF74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1781-4C20-4DCF-B530-9B6BDA6C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AE40-4966-4A0D-AABF-2C2CA58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D3B8-2A39-4CA1-B5B3-6437148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AEF0-737A-4228-A2A1-037BCE2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53CFD-5D08-4047-B7FC-8ED848CB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42F4-B95C-4BE5-BB06-4C898270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83B-5727-4A91-8A37-06BE94BA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B4C2-F0FA-478B-AC7E-89383BC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43E5E-6825-410C-89F5-9770549B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42F8-5495-4966-9854-1BCA1C17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3EAA4-540E-43BA-A37C-A18EE20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55A1E-0FAB-45F1-A411-3804BA3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12FB-19F9-453D-BB51-24152CD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E9DA-F7F4-49BF-9C08-85E95D0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1F08-87E4-40B9-91D0-A083D93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FEC0-D21F-48EC-B173-F9FF722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810D-1F59-487A-8D57-5329331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12D-67B7-4371-BD27-545524B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6FDC-5C6B-4C61-A5DE-BC03BA35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7562-ABCF-4CCA-8935-B0F940C3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284CB-F9B3-4A30-87CB-1B86DF4B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F297-D749-4688-915A-F822B20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A25C-6368-40AC-85B3-7D19637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FA64-FD2C-4689-84E1-360A402D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474F-A316-4875-A97D-8EF8E062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7D31-A476-43EF-9528-2BBC5BE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4F87-3DAE-4B54-AEF5-899F2C6A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0A39-BE92-4C6E-9D19-67504A1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AE3-F27C-407B-B34D-1A6816B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3D15-3E86-46A3-B42B-0564478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F5CC8-D6F6-4D25-9C65-8937431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F6AA-F330-4202-8FD5-E902846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A71B-F0E2-4942-8788-AE72E502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3855-BC62-4A40-AA45-02543A02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E4A4-3B23-4B92-9878-2654C3FF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54E1A-5369-4C57-8E8A-2F69E3BB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3873-489B-4357-B328-A0865B0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DB7FD-5352-48EE-BD3D-3111176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351D8-B3CC-4424-8700-F1B96A8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DB1-7743-4591-92CE-B26CCAF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F38C3-2C1C-4784-A824-2E1C89F4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9160E-09D6-42B9-9A21-2D890BD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E8EDA-307F-4110-8BE6-740D916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06EF-F691-40A7-A90E-6CC0D46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711A-E13C-4642-8220-70C3FB1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0965-9C76-420F-9406-5F7DD01E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36A1-8C9E-44C1-A4AD-51C742A2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B2AD9-5362-48A3-875E-2DBB9307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A63C-66DC-4596-B7A7-B1BD494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D798-8D8F-4DE3-8FE9-FF54A6E6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171-F1AA-4A10-9EC1-DE5598987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03FE-0292-4B90-B58C-1AED11E07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4D5B-4707-48A9-B25D-F41D0985B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0642-E64F-4B73-A408-C83C399E0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173B-04C3-49A7-8382-458E9D7A2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7A1-60E4-41EF-A6DA-A9B399147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FE8-CC85-4689-A1FA-AC8322944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D65-CE6F-481B-9A77-02425EF26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9925-6312-414A-8511-6D9E7C8CA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0BCB-5CBC-4839-8C60-04D062F0E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3B43-DD6D-4E2F-A303-54FFDEB6A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484E-793C-4D35-A529-7E39FC63D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itle 1"/>
          <p:cNvSpPr/>
          <p:nvPr/>
        </p:nvSpPr>
        <p:spPr>
          <a:xfrm>
            <a:off x="1763640" y="24922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И СЕСТРИНСКЕ НЕГЕ У НЕОНАТОЛОГИЈ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ф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мови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539280" y="1413000"/>
            <a:ext cx="3821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аспирације новорођенче треба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СУШИ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оплом, стерилном пеленом, да би се смањио губитак топло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зеозни верникс или сирасти ма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икасан овлаживач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инфективно свој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14" descr="umivanje novorojenca"/>
          <p:cNvPicPr/>
          <p:nvPr/>
        </p:nvPicPr>
        <p:blipFill>
          <a:blip r:embed="rId1"/>
          <a:stretch/>
        </p:blipFill>
        <p:spPr>
          <a:xfrm>
            <a:off x="4680000" y="152280"/>
            <a:ext cx="4464000" cy="215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5" name="Picture 10" descr="oblacenje"/>
          <p:cNvPicPr/>
          <p:nvPr/>
        </p:nvPicPr>
        <p:blipFill>
          <a:blip r:embed="rId2"/>
          <a:stretch/>
        </p:blipFill>
        <p:spPr>
          <a:xfrm>
            <a:off x="4854600" y="3171960"/>
            <a:ext cx="4114800" cy="35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3276720" y="184320"/>
            <a:ext cx="10843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3"/>
          <p:cNvSpPr/>
          <p:nvPr/>
        </p:nvSpPr>
        <p:spPr>
          <a:xfrm>
            <a:off x="108000" y="2254320"/>
            <a:ext cx="51433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 даје у циљу профилакс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орагијск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оворођен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авезна је заштит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пчаног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трљк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септик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чиј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пале се врши укапавањем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: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0,5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ритромицин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2,5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идон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Box 5"/>
          <p:cNvSpPr/>
          <p:nvPr/>
        </p:nvSpPr>
        <p:spPr>
          <a:xfrm>
            <a:off x="227160" y="10368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b0f0"/>
                </a:solidFill>
                <a:latin typeface="Arial"/>
                <a:ea typeface="Arial"/>
              </a:rPr>
              <a:t>ПОСТУПАК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b0f0"/>
                </a:solidFill>
                <a:latin typeface="Arial"/>
                <a:ea typeface="Arial"/>
              </a:rPr>
              <a:t>СА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b0f0"/>
                </a:solidFill>
                <a:latin typeface="Arial"/>
                <a:ea typeface="Arial"/>
              </a:rPr>
              <a:t>ЗДРАВИМ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b0f0"/>
                </a:solidFill>
                <a:latin typeface="Arial"/>
                <a:ea typeface="Arial"/>
              </a:rPr>
              <a:t>НОВОРОЂЕНЧЕ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Picture 10" descr="Credejeve kaplice"/>
          <p:cNvPicPr/>
          <p:nvPr/>
        </p:nvPicPr>
        <p:blipFill>
          <a:blip r:embed="rId1"/>
          <a:stretch/>
        </p:blipFill>
        <p:spPr>
          <a:xfrm>
            <a:off x="4932360" y="3284640"/>
            <a:ext cx="3773520" cy="31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0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4046400" y="15552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01" name="TextBox 7"/>
          <p:cNvSpPr/>
          <p:nvPr/>
        </p:nvSpPr>
        <p:spPr>
          <a:xfrm>
            <a:off x="1166760" y="37152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Box 8"/>
          <p:cNvSpPr/>
          <p:nvPr/>
        </p:nvSpPr>
        <p:spPr>
          <a:xfrm>
            <a:off x="4910040" y="37152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040" y="620640"/>
            <a:ext cx="80010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постоје две артерије (на бр. 3 и 9) и једна умбиликална вена (на бр. 12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само једне пупчане артерије указује на могуће аномалије УГТ и КВС систем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2" descr="http://www.nlm.nih.gov/medlineplus/ency/images/ency/fullsize/9055.jpg"/>
          <p:cNvPicPr/>
          <p:nvPr/>
        </p:nvPicPr>
        <p:blipFill>
          <a:blip r:embed="rId1"/>
          <a:stretch/>
        </p:blipFill>
        <p:spPr>
          <a:xfrm>
            <a:off x="468360" y="414972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IV"/>
          <p:cNvPicPr/>
          <p:nvPr/>
        </p:nvPicPr>
        <p:blipFill>
          <a:blip r:embed="rId2"/>
          <a:stretch/>
        </p:blipFill>
        <p:spPr>
          <a:xfrm>
            <a:off x="4162320" y="3068640"/>
            <a:ext cx="4753080" cy="36464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3"/>
          <a:stretch/>
        </p:blipFill>
        <p:spPr>
          <a:xfrm>
            <a:off x="3924360" y="66600"/>
            <a:ext cx="10843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84000" y="2133720"/>
            <a:ext cx="259236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лед неправилног подвезивања пупчаника може да настане ХЕМАТОМ ПУПЧА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IV"/>
          <p:cNvPicPr/>
          <p:nvPr/>
        </p:nvPicPr>
        <p:blipFill>
          <a:blip r:embed="rId1"/>
          <a:stretch/>
        </p:blipFill>
        <p:spPr>
          <a:xfrm>
            <a:off x="3780000" y="1916280"/>
            <a:ext cx="4968720" cy="48243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3924360" y="447840"/>
            <a:ext cx="1084320" cy="96984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"/>
          <p:cNvSpPr/>
          <p:nvPr/>
        </p:nvSpPr>
        <p:spPr>
          <a:xfrm>
            <a:off x="179280" y="1484280"/>
            <a:ext cx="52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м.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пч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п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су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тпа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-1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НФЕКЦИЈЕ ПУП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ahoma"/>
              </a:rPr>
              <a:t>Blenorrhoea umbilici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влажење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упчане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ане,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је условљава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станак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anuloma umbil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-израшт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н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чвршћ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п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тељ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mphalitis и умбиликална флегм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Box 2"/>
          <p:cNvSpPr/>
          <p:nvPr/>
        </p:nvSpPr>
        <p:spPr>
          <a:xfrm>
            <a:off x="1116000" y="9493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УПЧАНИ ПАТРЉА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Picture 4" descr="IV"/>
          <p:cNvPicPr/>
          <p:nvPr/>
        </p:nvPicPr>
        <p:blipFill>
          <a:blip r:embed="rId1"/>
          <a:stretch/>
        </p:blipFill>
        <p:spPr>
          <a:xfrm>
            <a:off x="5659560" y="3860640"/>
            <a:ext cx="3174840" cy="2770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IV"/>
          <p:cNvPicPr/>
          <p:nvPr/>
        </p:nvPicPr>
        <p:blipFill>
          <a:blip r:embed="rId2"/>
          <a:stretch/>
        </p:blipFill>
        <p:spPr>
          <a:xfrm>
            <a:off x="5897520" y="1000080"/>
            <a:ext cx="2960640" cy="2341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http://www.volonterskicentarkg.org/wp-content/uploads/2011/02/MEDFKG-181x3002.jpg"/>
          <p:cNvPicPr/>
          <p:nvPr/>
        </p:nvPicPr>
        <p:blipFill>
          <a:blip r:embed="rId3"/>
          <a:stretch/>
        </p:blipFill>
        <p:spPr>
          <a:xfrm>
            <a:off x="3995640" y="6192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7"/>
          <p:cNvSpPr/>
          <p:nvPr/>
        </p:nvSpPr>
        <p:spPr>
          <a:xfrm>
            <a:off x="1116000" y="27792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4859280" y="27792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ОР. МАЛЕ ПТМ-УГРОЖЕНО НОВОРОЂЕН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051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РАНИЦА СПОСОБНОСТИ ЗА ЕКСТРАУТЕРИНИ ЖИВОТ ЈЕ 500 г и 22 г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 мале порођајне ТМ&lt;Р10 за Г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ематуруси и ИУЗР) се често посматрају заједно због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чности етиолошких факто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фичног морбид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шкоћа у прилагођавању на екстраутерини жив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ребе за посебном нег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4290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240" y="1000080"/>
            <a:ext cx="8558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доношче је новорођ. рођено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наврше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7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.н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36+6/7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259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чунајућ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сталост превременог рађања у свету износи око 10%, док је у Србији она нешто мања (6,8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ма порођајној тежини се деле н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0 грама;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м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500-25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4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ма ГС недоношчад се деле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68360" y="236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ре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extremely prete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6/7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ре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very prete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6/7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ере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зре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derately preter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навршен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до 33 6/7. г.н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дтерминско новорођенче 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 late preter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д навршен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е до навршене 36. г.н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ДОНОШ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1999800"/>
            <a:ext cx="7072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МТ слаб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знат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сић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уште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ру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з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н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ануг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лач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зи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рз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оп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ш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кољ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дели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к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италије инфанти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642960" y="2357280"/>
            <a:ext cx="5791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3" name="Picture 5" descr="viber_image_2020-05-04_19-47-33.jpg"/>
          <p:cNvPicPr/>
          <p:nvPr/>
        </p:nvPicPr>
        <p:blipFill>
          <a:blip r:embed="rId1"/>
          <a:stretch/>
        </p:blipFill>
        <p:spPr>
          <a:xfrm>
            <a:off x="5429160" y="2071800"/>
            <a:ext cx="3191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УНКЦИОНАЛНЕ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95280" y="2142720"/>
            <a:ext cx="8391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зрела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а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ањ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борав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ше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ДС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вљ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3/4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Н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&lt;3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н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еморагиј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асфиктичн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неумотор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ХРАН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лабљен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флекс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ањ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утањ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ш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МОРЕГУЛАЦИЈ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шин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у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М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вол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Е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ЗЕРВЕ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лоност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 хипогликемиј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алцемиј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натремиј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цидоз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ротеинемиј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азотем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ЛОНОСТ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К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лошкој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жутиц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хитису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мији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П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К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428760" y="2209680"/>
            <a:ext cx="385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ж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babyterm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хва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еја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етл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еђ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к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рач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нит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у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лс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симет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0" y="1197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Narrow"/>
              </a:rPr>
              <a:t>Поступак са здравим новорођенчетом у порођајној са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8" descr="http://htmlimg2.scribdassets.com/2g5v4flow01l7azn/images/7-6f15ff8005.jpg"/>
          <p:cNvPicPr/>
          <p:nvPr/>
        </p:nvPicPr>
        <p:blipFill>
          <a:blip r:embed="rId1"/>
          <a:srcRect l="32483" t="61908" r="0" b="3886"/>
          <a:stretch/>
        </p:blipFill>
        <p:spPr>
          <a:xfrm>
            <a:off x="4932360" y="2421000"/>
            <a:ext cx="4091040" cy="4103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874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47" name="TextBox 6"/>
          <p:cNvSpPr/>
          <p:nvPr/>
        </p:nvSpPr>
        <p:spPr>
          <a:xfrm>
            <a:off x="1116000" y="30312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4859280" y="30312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868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0880" y="2017440"/>
            <a:ext cx="83059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себ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де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нкубатори (дозирање и надзор О2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рофилакса и рани скри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треб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од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завис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д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Г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ФОТО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терапиј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клоност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а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нфекциј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СХРА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нтерал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 (130-200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л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г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лек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дан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арентер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ећ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треб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ротеини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(2-4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гр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г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2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сенцијалним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амино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асним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иселина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инерали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итами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6248520" y="6095880"/>
            <a:ext cx="1523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6400800" y="6248520"/>
            <a:ext cx="1523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410080" y="4038480"/>
            <a:ext cx="3733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1" name="Picture 6" descr="viber_image_2020-05-04_19-48-08.jpg"/>
          <p:cNvPicPr/>
          <p:nvPr/>
        </p:nvPicPr>
        <p:blipFill>
          <a:blip r:embed="rId1"/>
          <a:srcRect l="0" t="18602" r="0" b="18002"/>
          <a:stretch/>
        </p:blipFill>
        <p:spPr>
          <a:xfrm>
            <a:off x="6143760" y="64296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ЕГА НОВОРОЂ. У ИНКУБА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кубат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л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еб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и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акрс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кција и омогућила адекватна терморег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alibri"/>
              </a:rPr>
              <a:t>Неопходна</a:t>
            </a: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Calibri"/>
              </a:rPr>
              <a:t>децу</a:t>
            </a: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Calibri"/>
              </a:rPr>
              <a:t>која</a:t>
            </a: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гро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ођ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33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стацијске недељ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лож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рофич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њ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0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4" descr="Slika0349"/>
          <p:cNvPicPr/>
          <p:nvPr/>
        </p:nvPicPr>
        <p:blipFill>
          <a:blip r:embed="rId1"/>
          <a:stretch/>
        </p:blipFill>
        <p:spPr>
          <a:xfrm>
            <a:off x="990720" y="152280"/>
            <a:ext cx="7848360" cy="35816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4"/>
          <p:cNvSpPr/>
          <p:nvPr/>
        </p:nvSpPr>
        <p:spPr>
          <a:xfrm>
            <a:off x="914400" y="2971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Мора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тачн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регулисати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онцентрација О2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A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4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H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О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емпература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&lt; 8оог : 37 – 3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°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сле 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oг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на 36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°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 800-1000г (36-3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°C );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00-1250 (35-3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°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; 1500-2000г (34-3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°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лажнос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60%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8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44ac"/>
                </a:solidFill>
                <a:latin typeface="Calibri"/>
              </a:rPr>
              <a:t>НЕГА ЕКСТРЕМНО НЕЗРЕЛОГ 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533520" y="1339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ањити транскутани губитак течности пластичним покро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гре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влаж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респираторних гасова, повећ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собне 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до 26 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паковање тела и гл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ревремено рођеног детета у топлотне фоли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, термал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душе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слич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ину дате течности подесити тако да диуреза буде 0,5 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погликемију у првих 2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риговати раним енетералним уносом,или парентералном применом 5% глукозе, код екстремно незреле новорођене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4" descr="Slika0352"/>
          <p:cNvPicPr/>
          <p:nvPr/>
        </p:nvPicPr>
        <p:blipFill>
          <a:blip r:embed="rId1"/>
          <a:stretch/>
        </p:blipFill>
        <p:spPr>
          <a:xfrm>
            <a:off x="1143000" y="1268280"/>
            <a:ext cx="7500960" cy="54007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1"/>
          <p:cNvSpPr/>
          <p:nvPr/>
        </p:nvSpPr>
        <p:spPr>
          <a:xfrm>
            <a:off x="1899360" y="69228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ИПРЕМА МЕДИЦИНСКОГ ТЕХНИЧ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914400" y="685800"/>
            <a:ext cx="77724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р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пре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ла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 изоле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та следећ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дослед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љања 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ћ постоје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з/орогастрич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он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спов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 де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ља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лене 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лањ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в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кубато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лаж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п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виђе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р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 де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ерилн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л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ГА 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Куп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т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рож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Пребрисавањем прегиб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тал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роже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Нег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гениталиј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аналног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Calibri"/>
              </a:rPr>
              <a:t>предела-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рил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топље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пл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твором, јед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ре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ред ка позади (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новљ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с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та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ИЈ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рил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з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топље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твор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 1%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ациди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бори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а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угач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писа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ре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љашње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утраш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РАДА ПУПЧАНОГ ПАТРЉ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4920" y="1752120"/>
            <a:ext cx="807696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лико пупчани патрљак још није отпао, треба га дезинфиковати Повидон јодид раствором и заштитити новом стерилном газом (мале компресе 5х5 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но је да се патрљак добро залије јодом и потом замота троугластом газом (добије се када се мала компреса размота у велики квадрат, који се потом пресавије по дијагонали на пол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БРАДА ПУПЧАНЕ Р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14400" y="1523880"/>
            <a:ext cx="77724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љ је 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на или пупчани патрљ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в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реч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јава 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држав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 принцип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ог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епсе и антисеп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рад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пча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трљ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пу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раст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пч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рилном газом, на коју смо накапали раствор Повидон јодида, обришемо околину пупчане ране - у смеру казаљке на са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м газом, на коју је такође накапан раствор, очистимо саму пупчану рану, и то тако да што више јода доспе у њу. Преко пупка стављамо нову стерилну газу и залепимо је танким папирним фласте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Г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С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УП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мен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О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Ф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ЦЕР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овод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ог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жипр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мо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ери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несе 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Дактанол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гел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га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ч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кидати наслаг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зи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л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удаљениј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пљ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ОРМАЛАН ПОРОЂА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880" y="178452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тврдити порођајне трудове, дилатацију грлића, спуштање фетуса и његову презента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орођенче породимо на  трбух мајке и причекамо да престану пулсације пупчаника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додатно допремање крви новорођеном детету, психоемоционални аспек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10" descr="rojstvo na trebuh"/>
          <p:cNvPicPr/>
          <p:nvPr/>
        </p:nvPicPr>
        <p:blipFill>
          <a:blip r:embed="rId1"/>
          <a:stretch/>
        </p:blipFill>
        <p:spPr>
          <a:xfrm>
            <a:off x="5580000" y="1700280"/>
            <a:ext cx="341172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ћење излучевина и дневног ун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ти пажњу на количину столице, учесталост, број и конзистенциј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вљањем уринарног катетера мери се количина излученог урина за 24 са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игурија &lt;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/kg/h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лученог ури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нос хране и течности бележи се сваких сат времена, било путем периферног венског пута или на у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ОГЛИКЕМИЈА-ЕТ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3640" y="2276280"/>
            <a:ext cx="87152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Недовољан</a:t>
            </a:r>
            <a:r>
              <a:rPr b="0" lang="vi-VN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унос</a:t>
            </a:r>
            <a:r>
              <a:rPr b="0" lang="vi-VN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глукоз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Повећана</a:t>
            </a:r>
            <a:r>
              <a:rPr b="0" lang="vi-VN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количина</a:t>
            </a:r>
            <a:r>
              <a:rPr b="0" lang="vi-VN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циркулишућег</a:t>
            </a:r>
            <a:r>
              <a:rPr b="0" lang="vi-VN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инсули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лел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ckwith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deman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нкреаса,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ки леко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нагли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ид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узиј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соком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центрацијом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укозе, након ЕТ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Смањен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депо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гликог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матуритет, ИУЗ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Повећан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коришћењ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смањен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продукциј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д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натал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е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п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о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фикс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терм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цитемија,ендокрини поремеће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икогенозе..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6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2330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глед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Лабораторијск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анали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с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пилар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мбиликал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тете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лиз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ор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ад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икем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mmol/l/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иколи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Транзиторна</a:t>
            </a:r>
            <a:r>
              <a:rPr b="0" lang="sv-SE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хипогликемија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икемија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КС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пса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цитемија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70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14200" y="2071800"/>
            <a:ext cx="8715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Асимптом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Симптомс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не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тон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рефлекс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јан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еди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а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иска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аб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им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ро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мо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ритабилно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тарг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вулзиј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5840" y="134136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70c0"/>
                </a:solidFill>
                <a:latin typeface="Calibri"/>
              </a:rPr>
              <a:t>Перзистентна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70c0"/>
                </a:solidFill>
                <a:latin typeface="Calibri"/>
              </a:rPr>
              <a:t>хипогликемија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2142720"/>
            <a:ext cx="85075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четн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спитив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икем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сули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етони (у серуму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аљ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спитивањ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зликов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таболички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ипопитуитариз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иперинсулинем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рм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тиз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рокси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обод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укаг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рганс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краћ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кт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дукујућ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ето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39280" y="2060280"/>
            <a:ext cx="8401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70c0"/>
                </a:solidFill>
                <a:latin typeface="Calibri"/>
              </a:rPr>
              <a:t>Појење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5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luc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g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дој, млечна формул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v.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10% gluc 2-2,5ml/k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200-2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g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 2-3м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4-6-8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степе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в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луко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 mg/kg/min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70c0"/>
                </a:solidFill>
                <a:latin typeface="Calibri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12,5%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глукоза</a:t>
            </a:r>
            <a:r>
              <a:rPr b="0" lang="sr-RS" sz="2400" spc="-1" strike="noStrike">
                <a:solidFill>
                  <a:srgbClr val="0070c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Перзистентн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хипогликемиј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ити основни узр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 mg/kg/m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Глукаг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025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,3 mg/k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.м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х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m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п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Кортикостерои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идрокортиз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.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.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низ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.о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иазокси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ЕНТЕ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терал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ир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ивидуал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70c0"/>
                </a:solidFill>
                <a:latin typeface="Calibri"/>
              </a:rPr>
              <a:t>уводи</a:t>
            </a:r>
            <a:r>
              <a:rPr b="0" lang="vi-VN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Calibri"/>
              </a:rPr>
              <a:t>што</a:t>
            </a:r>
            <a:r>
              <a:rPr b="0" lang="vi-VN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Calibri"/>
              </a:rPr>
              <a:t>рани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С 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ктур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бидитет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Calibri"/>
              </a:rPr>
              <a:t>Дојење</a:t>
            </a:r>
            <a:r>
              <a:rPr b="0" lang="vi-VN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ствен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родан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ад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посред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ођењу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90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лумн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но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6840" y="2287080"/>
            <a:ext cx="8543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5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70-20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утрофич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ц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0-200-25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трофич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ИЗБОР МЛЕ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лек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ластит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јк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огаћен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јчин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лек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лек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нк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лек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”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стеризован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пецијализован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ормул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времен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ђен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ц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69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ХРАНА НЕДОНОШ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5092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Зрело хумано млек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покрива претпостављене захтеве за беланчевинама, енергетским уносом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+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++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++, 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++, витаминима,микроелементима 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Z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 тд.), али је боља сварљивост ма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ематурно млек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ма већу количину укупног азота, као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 из протеина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+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 у раној лакта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пецијализована млечна формула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ма 1,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протеина / 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 65-7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мле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днос казеин:беланчевине сурутке сличне хуманом мле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00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96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НТЕРАЛНА ИСХ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13840" y="1928520"/>
            <a:ext cx="8472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f0"/>
                </a:solidFill>
                <a:latin typeface="Calibri"/>
                <a:ea typeface="Arial"/>
              </a:rPr>
              <a:t>СИС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ца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&lt;34. г.н. немају развијен рефлекс сисаја и гут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па се хране путем сонд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ИНТЕРМИТЕНТНО ГАСТРИЧКО ХРАЊЕ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на 1-4 сата оро или назогастрични п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КОНТИНУИРАНО ГАСТРИЧКО ХРАЊ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мењује се код успореног пражњења желуца и респираторих сметњ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ТРАНСПИЛОРИЧКО ГАСТРИЧКО ХРАЊ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мењује се код ГЕР-а,аспирације, успореног пражњеја желуца и рекуренте апнее. Могуће компликације НЕК,повраћање,перфорација црева,промена цревне флоре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0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"/>
          <p:cNvSpPr/>
          <p:nvPr/>
        </p:nvSpPr>
        <p:spPr>
          <a:xfrm>
            <a:off x="324000" y="3068640"/>
            <a:ext cx="5248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посред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лемов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бдоме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2"/>
          <p:cNvSpPr/>
          <p:nvPr/>
        </p:nvSpPr>
        <p:spPr>
          <a:xfrm>
            <a:off x="546120" y="1197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во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есецање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50920" y="22050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03200" y="2489040"/>
            <a:ext cx="73198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лет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кспулз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од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станк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лс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пчаника,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хватим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l-SI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ан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рилн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сечемо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(60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c)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6" name="Picture 11" descr="prekinitev popk"/>
          <p:cNvPicPr/>
          <p:nvPr/>
        </p:nvPicPr>
        <p:blipFill>
          <a:blip r:embed="rId1"/>
          <a:srcRect l="0" t="12617" r="0" b="0"/>
          <a:stretch/>
        </p:blipFill>
        <p:spPr>
          <a:xfrm>
            <a:off x="5572080" y="3735360"/>
            <a:ext cx="3284640" cy="274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7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8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тер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ПД волум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гранич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ПОСТУПЦИ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ЗА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ИСХРАНУ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ДЕЦЕ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ВМТМ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(&lt; 1500 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г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)</a:t>
            </a:r>
            <a:r>
              <a:rPr b="0" lang="sr-CS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120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ан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12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ан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ml/kg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зидуални волумен у желуцу треба да је &lt;1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в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е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тити толеранцију ентералног уно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ТАЛНА ПАРЕНТЕРАЛНА ИСХРАНА (ТП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242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ергетс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бољш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ћ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спитализ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бољш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спиратор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вени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вис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бољш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ПД, НЕК, Сепсе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х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лестазе, остеопен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ључиво и.в. храњење не би требало употребљавати рутинск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аминолакт </a:t>
            </a:r>
            <a:r>
              <a:rPr b="0" lang="sr-RS" sz="28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Интралипиди </a:t>
            </a:r>
            <a:r>
              <a:rPr b="0" lang="sr-RS" sz="2800" spc="-1" strike="noStrike">
                <a:solidFill>
                  <a:srgbClr val="0070c0"/>
                </a:solidFill>
                <a:latin typeface="Calibri"/>
              </a:rPr>
              <a:t> од 0,5 до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x 3g/kg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ИДИКАЦИЈЕ: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ТМ&lt;1250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 1.-ог дана живо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атрезија једњака, дуоденума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астрошиза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шке форме РДС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КОНТРАИНДИКА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рођени поремећај метаболизма аминокиселина, акутна фаза сеп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д пацијената са иреверзибилним (трајним) оштећењем јетре, билирубин &gt;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µ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д тешких уремија, када дијализа није могућ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д преосетљивости на једну или више аминокисе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20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ОЛЕСНО НОВОРОЂЕНЧ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51920" y="1294920"/>
            <a:ext cx="853452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ше убрзано или прекида дисањ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че слабо или вриска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буди с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литаво је или адинамич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бија оброке ил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враћ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(жуч, крв,столицу-мислити на опструкцију ГИТ-а!!!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а повишену или снижену телесну температу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жа цијанотична, иктерична или марморизова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патомегалија, тахикардија, продужено капиларно пуњењ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лигурија, хипотензија, лактацидоза=шок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99880" y="906120"/>
            <a:ext cx="8686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двиђањ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живљ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08000" y="2122200"/>
            <a:ext cx="42148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l-SI" sz="2400" spc="-1" strike="noStrike">
                <a:solidFill>
                  <a:srgbClr val="0070c0"/>
                </a:solidFill>
                <a:latin typeface="Calibri"/>
              </a:rPr>
              <a:t>10%</a:t>
            </a:r>
            <a:r>
              <a:rPr b="0" lang="sl-SI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оворођенчад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хтев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нeки од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поступака оживљавањ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CS" sz="2400" spc="-1" strike="noStrike">
                <a:solidFill>
                  <a:srgbClr val="0070c0"/>
                </a:solidFill>
                <a:latin typeface="Calibri"/>
              </a:rPr>
              <a:t>1-2%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интубацију, масажу срца и/или медикаментозну реанимацију (</a:t>
            </a:r>
            <a:r>
              <a:rPr b="1" lang="sr-CS" sz="2400" spc="-1" strike="noStrike">
                <a:solidFill>
                  <a:srgbClr val="00b0f0"/>
                </a:solidFill>
                <a:latin typeface="Calibri"/>
              </a:rPr>
              <a:t>0,1%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сваком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порођају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би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требало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да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присуствује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бар једна особа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које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зна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примарну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реаним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4272120" y="2276640"/>
            <a:ext cx="4714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царски</a:t>
            </a:r>
            <a:r>
              <a:rPr b="1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рез</a:t>
            </a:r>
            <a:r>
              <a:rPr b="1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неопходно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трајање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трудноће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Tahoma"/>
              </a:rPr>
              <a:t>&lt; 35 </a:t>
            </a: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1" lang="sl-SI" sz="2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sl-SI" sz="2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ИУЗР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атолошка презентација,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вишеструка трудноћа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меконијалн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лодов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вода на  почетку порођаја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вакуум екстракција или</a:t>
            </a:r>
            <a:r>
              <a:rPr b="1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ahoma"/>
              </a:rPr>
              <a:t>форцепс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јако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крвављење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ролапс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упчаника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аномалије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лода 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7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ПРЕМА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214200" y="2071800"/>
            <a:ext cx="738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анимацио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то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исеони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Фл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ета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ера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ото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Балон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анимациј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60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вентило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Вентилацион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аск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00”, “0”, “1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Ларингоско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авно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шпатул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cGi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лешт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етал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води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убу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Ендотрахеал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убус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спирацио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атетер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спирато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Шато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исеони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Хоо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пара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ерењ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Fi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улсоксимета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аћењ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улс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а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мбиликал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атетер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шприцев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гл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беб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истем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нтравенск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анил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2" name="Picture 1030" descr="rea miza"/>
          <p:cNvPicPr/>
          <p:nvPr/>
        </p:nvPicPr>
        <p:blipFill>
          <a:blip r:embed="rId1"/>
          <a:stretch/>
        </p:blipFill>
        <p:spPr>
          <a:xfrm>
            <a:off x="5786280" y="928800"/>
            <a:ext cx="3357720" cy="57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33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C:\Users\Win7\Desktop\Šema algoritma reanimacije NN.jpg"/>
          <p:cNvPicPr/>
          <p:nvPr/>
        </p:nvPicPr>
        <p:blipFill>
          <a:blip r:embed="rId1"/>
          <a:stretch/>
        </p:blipFill>
        <p:spPr>
          <a:xfrm>
            <a:off x="324000" y="274680"/>
            <a:ext cx="8286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89298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Оце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ворођенчета: </a:t>
            </a:r>
            <a:r>
              <a:rPr b="1" lang="sr-CS" sz="3200" spc="-1" strike="noStrike">
                <a:solidFill>
                  <a:srgbClr val="00b0f0"/>
                </a:solidFill>
                <a:latin typeface="Calibri"/>
              </a:rPr>
              <a:t>30-60 с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500040" y="2214720"/>
            <a:ext cx="842976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Процена квалитета плодове воде и гестацијске стар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Температура тела</a:t>
            </a:r>
            <a:r>
              <a:rPr b="0" lang="sr-CS" sz="2400" spc="-1" strike="noStrike">
                <a:solidFill>
                  <a:srgbClr val="00b0f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&lt;36° C </a:t>
            </a:r>
            <a:r>
              <a:rPr b="0" lang="sr-RS" sz="2400" spc="-1" strike="noStrike">
                <a:solidFill>
                  <a:srgbClr val="00b0f0"/>
                </a:solidFill>
                <a:latin typeface="Tahoma"/>
              </a:rPr>
              <a:t>хипотермија</a:t>
            </a:r>
            <a:r>
              <a:rPr b="0" lang="sr-CS" sz="2400" spc="-1" strike="noStrike">
                <a:solidFill>
                  <a:srgbClr val="00b0f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Боја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кож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лед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миналн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пне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крвављење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модр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арн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пне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конијална обојенос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Респирације 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да ли плаче?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изање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рудног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ша, аускулт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Откуцаји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срца;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ипање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упчаник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врх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р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ускулт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опплер технике, ЕКГ монитори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Tahoma"/>
              </a:rPr>
              <a:t>Тонус, рефлексна активност и стање свести;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0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0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ложај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ђим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м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едњем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br>
              <a:rPr sz="24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брисањ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тактилна стимулација, загревање: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грејава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 више доказ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прилог хлађењ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а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33,5 С° до 34,5 С°)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≥3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6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Г.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 умереном до тешком ХИЕ</a:t>
            </a:r>
            <a:br>
              <a:rPr sz="2400"/>
            </a:b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слобађање горњих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исајних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утева: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                         -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АСПИР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ст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дрел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2"/>
          <p:cNvSpPr/>
          <p:nvPr/>
        </p:nvSpPr>
        <p:spPr>
          <a:xfrm>
            <a:off x="2627280" y="8366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) Основна нег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Box 4"/>
          <p:cNvSpPr/>
          <p:nvPr/>
        </p:nvSpPr>
        <p:spPr>
          <a:xfrm>
            <a:off x="5364000" y="4508640"/>
            <a:ext cx="35658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нијална, густа, крв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ше или је депримирано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428760" y="4786200"/>
            <a:ext cx="392904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ст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нијалн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ш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рн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Box 8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11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) ВЕНТИЛ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54080" y="227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1f497d"/>
                </a:solidFill>
                <a:latin typeface="Calibri"/>
              </a:rPr>
              <a:t>ИНДИКАЦИЈА: </a:t>
            </a:r>
            <a:r>
              <a:rPr b="0" lang="sr-CS" sz="2000" spc="-1" strike="noStrike">
                <a:solidFill>
                  <a:srgbClr val="0070c0"/>
                </a:solidFill>
                <a:latin typeface="Calibri"/>
              </a:rPr>
              <a:t>Апнеа &gt;20-</a:t>
            </a:r>
            <a:r>
              <a:rPr b="0" lang="sl-SI" sz="2000" spc="-1" strike="noStrike">
                <a:solidFill>
                  <a:srgbClr val="0070c0"/>
                </a:solidFill>
                <a:latin typeface="Calibri"/>
              </a:rPr>
              <a:t>30 </a:t>
            </a:r>
            <a:r>
              <a:rPr b="0" lang="sr-CS" sz="2000" spc="-1" strike="noStrike">
                <a:solidFill>
                  <a:srgbClr val="0070c0"/>
                </a:solidFill>
                <a:latin typeface="Calibri"/>
              </a:rPr>
              <a:t>сек</a:t>
            </a:r>
            <a:r>
              <a:rPr b="0" lang="sl-SI" sz="20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070c0"/>
                </a:solidFill>
                <a:latin typeface="Calibri"/>
              </a:rPr>
              <a:t>, агонално дисање или брадикардија</a:t>
            </a:r>
            <a:r>
              <a:rPr b="0" lang="sl-SI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(Cp&lt;1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алон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ршити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ва-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ст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у зависности од ГС);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дах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тилирати 15-30 сек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обним ваздухом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 је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100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/мин. и присутна цијаноза, применити О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Концентрацију кисеоника подешавати у односу на регистровану предукталну СаО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жном тактилном стимулацијом даље подржати спонтане респирац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адувавање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желуца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пречити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гастричном сондом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8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04760" y="12463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ру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500040" y="2133720"/>
            <a:ext cx="43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ављ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стич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п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2-3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 абдом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тхо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тис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р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т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вр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руг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0,5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сп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п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коли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и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15" descr="oskrba popka"/>
          <p:cNvPicPr/>
          <p:nvPr/>
        </p:nvPicPr>
        <p:blipFill>
          <a:blip r:embed="rId1"/>
          <a:stretch/>
        </p:blipFill>
        <p:spPr>
          <a:xfrm>
            <a:off x="5508720" y="2492280"/>
            <a:ext cx="331920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63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71520" y="9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) ВЕНТИЛАЦИЈА балон-маск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785880" y="22147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амоширећи балон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вентилом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3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2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6" descr="laerdal"/>
          <p:cNvPicPr/>
          <p:nvPr/>
        </p:nvPicPr>
        <p:blipFill>
          <a:blip r:embed="rId1"/>
          <a:stretch/>
        </p:blipFill>
        <p:spPr>
          <a:xfrm>
            <a:off x="1500120" y="2786040"/>
            <a:ext cx="3857760" cy="335772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4"/>
          <p:cNvSpPr/>
          <p:nvPr/>
        </p:nvSpPr>
        <p:spPr>
          <a:xfrm>
            <a:off x="5857920" y="3143160"/>
            <a:ext cx="278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реанимацији новорођеног детета, притиском два прста на балон избацује се </a:t>
            </a: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15 ml</a:t>
            </a:r>
            <a:r>
              <a:rPr b="0" lang="en-US" sz="2000" spc="-1" strike="noStrike">
                <a:solidFill>
                  <a:srgbClr val="00b0f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аздуха, а сваким додатним прстом још по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b0f0"/>
                </a:solidFill>
                <a:latin typeface="Tahoma"/>
              </a:rPr>
              <a:t> m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азду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9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60" name="TextBox 7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Box 8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99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ГУЋЕ КОМПЛИК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360" y="2071800"/>
            <a:ext cx="9001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Calibri"/>
              </a:rPr>
              <a:t>Техничке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1f497d"/>
                </a:solidFill>
                <a:uFillTx/>
                <a:latin typeface="Calibri"/>
              </a:rPr>
              <a:t>греш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неправилно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састављен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ба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ш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к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правилан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ш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зи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бус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Calibri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пнеумотора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рингс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хе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l-SI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диафрагмална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хернија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1f497d"/>
                </a:solidFill>
                <a:uFillTx/>
                <a:latin typeface="Calibri"/>
              </a:rPr>
              <a:t>Посебна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1f497d"/>
                </a:solidFill>
                <a:uFillTx/>
                <a:latin typeface="Calibri"/>
              </a:rPr>
              <a:t>стања</a:t>
            </a:r>
            <a:r>
              <a:rPr b="0" lang="sl-SI" sz="2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онешеност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шеструк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правилно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</a:rPr>
              <a:t>гастрошиза</a:t>
            </a:r>
            <a:r>
              <a:rPr b="0" lang="sl-SI" sz="2400" spc="-1" strike="noStrike">
                <a:solidFill>
                  <a:srgbClr val="00b0f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b0f0"/>
                </a:solidFill>
                <a:latin typeface="Calibri"/>
              </a:rPr>
              <a:t>омфалоцела, дијафрагмална хернија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-контраиндикована вентилациј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65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 piece (Neopuff)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0" y="2428560"/>
            <a:ext cx="4500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спираторна линија и “ребрасто” црево које води до пацијен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лву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ол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П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лвул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ол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ЕП-а,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в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хтев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с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5" descr="Neopuff"/>
          <p:cNvPicPr/>
          <p:nvPr/>
        </p:nvPicPr>
        <p:blipFill>
          <a:blip r:embed="rId1"/>
          <a:stretch/>
        </p:blipFill>
        <p:spPr>
          <a:xfrm>
            <a:off x="5286240" y="3929040"/>
            <a:ext cx="338616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0" name="Picture 6" descr="Neopuff1"/>
          <p:cNvPicPr/>
          <p:nvPr/>
        </p:nvPicPr>
        <p:blipFill>
          <a:blip r:embed="rId2"/>
          <a:stretch/>
        </p:blipFill>
        <p:spPr>
          <a:xfrm>
            <a:off x="5572080" y="2143080"/>
            <a:ext cx="135108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1" name="Picture 7" descr="Neopuff2"/>
          <p:cNvPicPr/>
          <p:nvPr/>
        </p:nvPicPr>
        <p:blipFill>
          <a:blip r:embed="rId3"/>
          <a:stretch/>
        </p:blipFill>
        <p:spPr>
          <a:xfrm>
            <a:off x="7358040" y="2143080"/>
            <a:ext cx="135108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2" name="Picture 8" descr="http://www.volonterskicentarkg.org/wp-content/uploads/2011/02/MEDFKG-181x3002.jpg"/>
          <p:cNvPicPr/>
          <p:nvPr/>
        </p:nvPicPr>
        <p:blipFill>
          <a:blip r:embed="rId4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8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Box 9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ро</a:t>
            </a: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назотрахеална</a:t>
            </a: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нтубација</a:t>
            </a: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Picture 6" descr="intubacija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00080" y="2714760"/>
            <a:ext cx="4446720" cy="34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7" name="Rectangle 4"/>
          <p:cNvSpPr/>
          <p:nvPr/>
        </p:nvSpPr>
        <p:spPr>
          <a:xfrm>
            <a:off x="5857920" y="264312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ahoma"/>
              </a:rPr>
              <a:t>Индикациј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Tahoma"/>
              </a:rPr>
              <a:t>Апсолутне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ма спонтаних респирација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р&lt; 60/мин. посл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30 сек. адекватне вентилације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исање агонално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оком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масаже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рц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79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ро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зотрахеал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нтубациј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214200" y="1785960"/>
            <a:ext cx="8929800" cy="56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Tahoma"/>
              </a:rPr>
              <a:t>Релатив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меконијалн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лодов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вода-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отребн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аспирација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вентилирање балон-маском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није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делотворно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30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сек.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Силверман скор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&gt;5,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Ацидобазни скор</a:t>
            </a:r>
            <a:r>
              <a:rPr b="0" lang="en-US" sz="26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600" spc="-1" strike="noStrike">
                <a:solidFill>
                  <a:srgbClr val="1f497d"/>
                </a:solidFill>
                <a:latin typeface="Tahoma"/>
              </a:rPr>
              <a:t>3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 ; АС </a:t>
            </a:r>
            <a:r>
              <a:rPr b="0" lang="it-IT" sz="2600" spc="-1" strike="noStrike">
                <a:solidFill>
                  <a:srgbClr val="1f497d"/>
                </a:solidFill>
                <a:latin typeface="Tahoma"/>
              </a:rPr>
              <a:t>&lt;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3/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f497d"/>
                </a:solidFill>
                <a:latin typeface="Tahoma"/>
              </a:rPr>
              <a:t>PaO2 &lt; 6,6 kPa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при</a:t>
            </a:r>
            <a:r>
              <a:rPr b="0" lang="it-IT" sz="2600" spc="-1" strike="noStrike">
                <a:solidFill>
                  <a:srgbClr val="1f497d"/>
                </a:solidFill>
                <a:latin typeface="Tahoma"/>
              </a:rPr>
              <a:t> FiO2 &gt; 60%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екстремно незрело новорођенче са </a:t>
            </a:r>
            <a:r>
              <a:rPr b="0" lang="en-US" sz="2600" spc="-1" strike="noStrike">
                <a:solidFill>
                  <a:srgbClr val="1f497d"/>
                </a:solidFill>
                <a:latin typeface="Tahoma"/>
              </a:rPr>
              <a:t>Rtg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плућа</a:t>
            </a:r>
            <a:r>
              <a:rPr b="0" lang="en-US" sz="2600" spc="-1" strike="noStrike">
                <a:solidFill>
                  <a:srgbClr val="1f497d"/>
                </a:solidFill>
                <a:latin typeface="Tahoma"/>
              </a:rPr>
              <a:t> RDS &gt; 3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Tahoma"/>
              </a:rPr>
              <a:t>Трахеални</a:t>
            </a:r>
            <a:r>
              <a:rPr b="0" lang="sl-SI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ahoma"/>
              </a:rPr>
              <a:t>тубуси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(величина зависи од ГС и ТМ)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2,5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до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3,5,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без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сужењ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балончић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оротрахеалн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интубација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(“</a:t>
            </a:r>
            <a:r>
              <a:rPr b="0" lang="en-US" sz="2600" spc="-1" strike="noStrike">
                <a:solidFill>
                  <a:srgbClr val="1f497d"/>
                </a:solidFill>
                <a:latin typeface="Tahoma"/>
              </a:rPr>
              <a:t>tip to lip</a:t>
            </a:r>
            <a:r>
              <a:rPr b="0" lang="sr-Latn-CS" sz="2600" spc="-1" strike="noStrike">
                <a:solidFill>
                  <a:srgbClr val="1f497d"/>
                </a:solidFill>
                <a:latin typeface="Tahoma"/>
              </a:rPr>
              <a:t>”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=  6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цм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 +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тежина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у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sr-CS" sz="2600" spc="-1" strike="noStrike">
                <a:solidFill>
                  <a:srgbClr val="1f497d"/>
                </a:solidFill>
                <a:latin typeface="Tahoma"/>
              </a:rPr>
              <a:t>кг</a:t>
            </a:r>
            <a:r>
              <a:rPr b="0" lang="sl-SI" sz="2600" spc="-1" strike="noStrike">
                <a:solidFill>
                  <a:srgbClr val="1f497d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84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360" y="10522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: МАСАЖА СР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85480" y="1785960"/>
            <a:ext cx="87152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70c0"/>
                </a:solidFill>
                <a:uFillTx/>
                <a:latin typeface="Calibri"/>
              </a:rPr>
              <a:t>Индикациј</a:t>
            </a:r>
            <a:r>
              <a:rPr b="0" lang="sr-Latn-CS" sz="2400" spc="-1" strike="noStrike" u="sng">
                <a:solidFill>
                  <a:srgbClr val="0070c0"/>
                </a:solidFill>
                <a:uFillTx/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0" lang="sl-SI" sz="2600" spc="-1" strike="noStrike">
                <a:solidFill>
                  <a:srgbClr val="ff0000"/>
                </a:solidFill>
                <a:latin typeface="Calibri"/>
              </a:rPr>
              <a:t>&gt;30 </a:t>
            </a: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сек</a:t>
            </a:r>
            <a:r>
              <a:rPr b="0" lang="sl-SI" sz="26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адекватне </a:t>
            </a: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вентилације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ко балон-маске, тубуса или ларингеалне маске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Ср</a:t>
            </a:r>
            <a:r>
              <a:rPr b="0" lang="sl-SI" sz="2600" spc="-1" strike="noStrike">
                <a:solidFill>
                  <a:srgbClr val="ff0000"/>
                </a:solidFill>
                <a:latin typeface="Calibri"/>
              </a:rPr>
              <a:t>&lt; 60/</a:t>
            </a: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мин</a:t>
            </a:r>
            <a:r>
              <a:rPr b="0" lang="sl-SI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штачко дисање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sl-SI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l-SI" sz="2600" spc="-1" strike="noStrike">
                <a:solidFill>
                  <a:srgbClr val="ff0000"/>
                </a:solidFill>
                <a:latin typeface="Calibri"/>
              </a:rPr>
              <a:t>3 : 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:2 арест кардијалног порекла;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100%</a:t>
            </a:r>
            <a:r>
              <a:rPr b="0" lang="sl-SI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 сек.?</a:t>
            </a:r>
            <a:r>
              <a:rPr b="0" lang="sl-SI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није масирати Фр.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90/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0 вентилација /мин=120 догађаја/мин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Нови ставови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масирати Фр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120/мин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за новорођ., 100/мин за децу током 1. године и касниј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ажа срца техником 2 прс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857160" y="2643120"/>
            <a:ext cx="6786720" cy="34290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94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208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: ЛЕКОВ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21430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дреналин и.в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ча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куцај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&lt; 60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екват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тилациј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лазмаекспандер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ећ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лум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: Изотонич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нгер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ктат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 албум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,2% бикарбонати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мо у пролонгираној реанимацији, код доказане метаболичке ацидо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тернатив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ск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раосал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799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b0f0"/>
                </a:solidFill>
                <a:latin typeface="Cambria"/>
              </a:rPr>
              <a:t>Проблеми који могу да ометају процену цијанозе новорођ. применом транскутане оксиметриј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208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деми, танка кожа код превремено рођеног детет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потермија, хипотензиј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оша перфузиј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ериферна вазоконстрикција код шокног стањ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04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ПЕЦИФИЧНОСТИ ОЖИВЉАВАЊА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ЕДОНОШЧ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22200" y="2707920"/>
            <a:ext cx="849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натал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дук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рфактанта д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РТИКОСТЕРОИ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таметазо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ксаметаз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филактичко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вање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УРФАКТАНТА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анимације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ношчади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80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?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Т интубацију код новорођенчади рођене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&lt; 29. г.н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реба искористити за давање прве дозе сурфактанта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ниво препорука 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f497d"/>
                </a:solidFill>
                <a:latin typeface="Calibri"/>
              </a:rPr>
              <a:t>профилактичко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1f497d"/>
                </a:solidFill>
                <a:latin typeface="Calibri"/>
              </a:rPr>
              <a:t>давање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1f497d"/>
                </a:solidFill>
                <a:latin typeface="Calibri"/>
              </a:rPr>
              <a:t>сурфактанта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70c0"/>
                </a:solidFill>
                <a:latin typeface="Calibri"/>
              </a:rPr>
              <a:t>пре</a:t>
            </a:r>
            <a:r>
              <a:rPr b="0" lang="sl-SI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70c0"/>
                </a:solidFill>
                <a:latin typeface="Calibri"/>
              </a:rPr>
              <a:t>транспорта</a:t>
            </a:r>
            <a:r>
              <a:rPr b="0" lang="sl-SI" sz="2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доказано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лечења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бољ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компликација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транспорта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недовољног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надзора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вентилаци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09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1030320" y="15796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РИСТУП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НОВОРОЂЕНОМ ДЕТЕ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722160" y="2276640"/>
            <a:ext cx="7572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к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процене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виталности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ш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везив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но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yter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рово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дентификацион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ступак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258920" y="479736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казује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ајци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голо), због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псервације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идљивих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аномалија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л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24000" y="1233000"/>
            <a:ext cx="8496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200" spc="-1" strike="noStrike">
                <a:solidFill>
                  <a:srgbClr val="000000"/>
                </a:solidFill>
                <a:latin typeface="Calibri"/>
              </a:rPr>
              <a:t>реанимације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200" spc="-1" strike="noStrike">
                <a:solidFill>
                  <a:srgbClr val="000000"/>
                </a:solidFill>
                <a:latin typeface="Calibri"/>
              </a:rPr>
              <a:t>прекида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250920" y="2276280"/>
            <a:ext cx="82296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уколико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нема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одговора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након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20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минута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многи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педијатри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мисле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живљав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е,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ралн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хватљив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ид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мишљење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правника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теоретика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alibri"/>
              </a:rPr>
              <a:t>етике</a:t>
            </a:r>
            <a:r>
              <a:rPr b="1" lang="sl-SI" sz="24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апочињ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 укид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пц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одлучивање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у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порођајној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сали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најмање</a:t>
            </a:r>
            <a:r>
              <a:rPr b="0" lang="sl-SI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1f497d"/>
                </a:solidFill>
                <a:latin typeface="Calibri"/>
              </a:rPr>
              <a:t>пригод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ављен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ачн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компатибил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ивотом,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дужав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ес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ног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ид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вн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ровод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</a:rPr>
              <a:t>основна (палијативна)</a:t>
            </a:r>
            <a:r>
              <a:rPr b="0" lang="sl-SI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</a:rPr>
              <a:t>нега</a:t>
            </a:r>
            <a:r>
              <a:rPr b="0" lang="sl-SI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14" name="TextBox 4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Box 5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71600" y="1341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РАНСПОРТ УГРОЖЕНОГ НОВОРОЂЕНЧ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Calibri"/>
              </a:rPr>
              <a:t>ПРЕНАТАЛН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(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utero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”) ил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Calibri"/>
              </a:rPr>
              <a:t>ПОСТНАТАЛ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1. “</a:t>
            </a:r>
            <a:r>
              <a:rPr b="0" lang="sr-CS" sz="2000" spc="-1" strike="noStrike">
                <a:solidFill>
                  <a:srgbClr val="00b0f0"/>
                </a:solidFill>
                <a:latin typeface="Calibri"/>
              </a:rPr>
              <a:t>транспорт од себ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”- оспособљени тимови у оквиру месне или регионалне службе хитне помоћи (мана –недовољна обученост за специјализован транспор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. “</a:t>
            </a:r>
            <a:r>
              <a:rPr b="0" lang="sr-CS" sz="2000" spc="-1" strike="noStrike">
                <a:solidFill>
                  <a:srgbClr val="00b0f0"/>
                </a:solidFill>
                <a:latin typeface="Calibri"/>
              </a:rPr>
              <a:t>транспорт ка себ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”- где тим иде по новорођенче и превози га; (мана-п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зи из самог ОИН, што повећава потребу за особље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НСПОРТНА ЕКИПА: лекар, медицински техничар и воз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 добар транспорт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опходан је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транспортни инкубатор, извор О2 и транспорни респиратор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19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према и збрињавање НН током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1.Осигуравање виталних функциј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спираторне сметње и/или хипоксију збринути пре транспор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убирати НН и  прикључити на транспортни респират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авити транскутане електроде за праће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греј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пре давања тачних резултат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зирање О2 током транспорта најчешће се врши према боји коже и видљивих слузн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езбедити венску линиј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5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Box 6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20840" y="9716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 ТРАНСПО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42560" y="1785960"/>
            <a:ext cx="8543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штити НН од расхлађивања (транспортни инкубатор..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говати гликемију,ацидобазн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електролитн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татус...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Збрињавање специфичних проблема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 зависе од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</a:rPr>
              <a:t>основног обољењ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гастрошиза, омфалокела...);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</a:rPr>
              <a:t>врсте транспорт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пре транспорта хеликоптером аспирирати желудачни садржај и пласирати отворену гастричну сонду)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</a:rPr>
              <a:t>предвиђене дужине транспорт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уколико НН нема хипогликемију, а превоз неће трајати дуже од 30 мин., и.в. линије није неопход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4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b0f0"/>
                </a:solidFill>
                <a:latin typeface="Calibri"/>
              </a:rPr>
              <a:t>Однос према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b0f0"/>
                </a:solidFill>
                <a:latin typeface="Calibri"/>
              </a:rPr>
              <a:t>родитељ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узим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одитељ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вести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о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танов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одитељ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ч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дре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еф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ви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би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дравстве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ворите о ситуацији „овде и сада“, а не о перспективи 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834" name="TextBox 4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TextBox 5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untitled3"/>
          <p:cNvPicPr/>
          <p:nvPr/>
        </p:nvPicPr>
        <p:blipFill>
          <a:blip r:embed="rId1"/>
          <a:stretch/>
        </p:blipFill>
        <p:spPr>
          <a:xfrm>
            <a:off x="609480" y="205740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0504d"/>
                </a:solidFill>
                <a:latin typeface="Arial Black"/>
              </a:rPr>
              <a:t>HVALA NA PAŽNJI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"/>
          <p:cNvSpPr/>
          <p:nvPr/>
        </p:nvSpPr>
        <p:spPr>
          <a:xfrm>
            <a:off x="826920" y="620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Box 2"/>
          <p:cNvSpPr/>
          <p:nvPr/>
        </p:nvSpPr>
        <p:spPr>
          <a:xfrm>
            <a:off x="282600" y="122076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ИДЕНТИФИКАЦИОНИ</a:t>
            </a:r>
            <a:r>
              <a:rPr b="1" lang="sr-Latn-C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ПОСТУПА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38040" y="1785960"/>
            <a:ext cx="60343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јци нарукв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н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пгар ск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њ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стацијска старо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формациј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проверева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  <a:ea typeface="Arial"/>
              </a:rPr>
              <a:t>проходност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  <a:ea typeface="Arial"/>
              </a:rPr>
              <a:t>једњака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  <a:ea typeface="Arial"/>
              </a:rPr>
              <a:t>ан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з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антропометр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Г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Г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5" name="Picture 5" descr="otrok pri mami"/>
          <p:cNvPicPr/>
          <p:nvPr/>
        </p:nvPicPr>
        <p:blipFill>
          <a:blip r:embed="rId1"/>
          <a:stretch/>
        </p:blipFill>
        <p:spPr>
          <a:xfrm>
            <a:off x="6443640" y="1230480"/>
            <a:ext cx="2513160" cy="24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6" name="Picture 6" descr="tehtanje"/>
          <p:cNvPicPr/>
          <p:nvPr/>
        </p:nvPicPr>
        <p:blipFill>
          <a:blip r:embed="rId2"/>
          <a:stretch/>
        </p:blipFill>
        <p:spPr>
          <a:xfrm>
            <a:off x="5630760" y="4297320"/>
            <a:ext cx="332604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7" name="Picture 8" descr="http://www.volonterskicentarkg.org/wp-content/uploads/2011/02/MEDFKG-181x3002.jpg"/>
          <p:cNvPicPr/>
          <p:nvPr/>
        </p:nvPicPr>
        <p:blipFill>
          <a:blip r:embed="rId3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78" name="TextBox 8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Box 9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85680" y="1162080"/>
            <a:ext cx="8643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ПОСТУПАК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ЗДРАВИМ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ОМ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" name="Picture 10" descr="aspiracija"/>
          <p:cNvPicPr/>
          <p:nvPr/>
        </p:nvPicPr>
        <p:blipFill>
          <a:blip r:embed="rId1"/>
          <a:stretch/>
        </p:blipFill>
        <p:spPr>
          <a:xfrm>
            <a:off x="5502240" y="2492280"/>
            <a:ext cx="3325680" cy="35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2" name="Rectangle 4"/>
          <p:cNvSpPr/>
          <p:nvPr/>
        </p:nvSpPr>
        <p:spPr>
          <a:xfrm>
            <a:off x="179280" y="2492280"/>
            <a:ext cx="5000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е првог удаха новорођенче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треба нежно АСПИРИРАТИ  ус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шупљину, ждрело и нос да би с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спречила аспирација садржаја кој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иначе испуњава плућа до час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рођењ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Аспирација је неопходна ако ј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лодова вода </a:t>
            </a:r>
            <a:r>
              <a:rPr b="0" lang="sr-RS" sz="2400" spc="-1" strike="noStrike">
                <a:solidFill>
                  <a:srgbClr val="00b0f0"/>
                </a:solidFill>
                <a:latin typeface="Tahoma"/>
              </a:rPr>
              <a:t>густа, меконијална, крвава и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f0"/>
                </a:solidFill>
                <a:latin typeface="Tahoma"/>
              </a:rPr>
              <a:t>дете депримирано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3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84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5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АПГ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К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50920" y="2030040"/>
            <a:ext cx="52862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опулм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ун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атк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лност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5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ЖНИЈ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!!!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орав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сфиктичн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5786280" y="2178000"/>
            <a:ext cx="3168720" cy="436572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/>
          <p:cNvSpPr/>
          <p:nvPr/>
        </p:nvSpPr>
        <p:spPr>
          <a:xfrm>
            <a:off x="6375960" y="157464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rginia Apg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Picture 8" descr="http://www.volonterskicentarkg.org/wp-content/uploads/2011/02/MEDFKG-181x3002.jpg"/>
          <p:cNvPicPr/>
          <p:nvPr/>
        </p:nvPicPr>
        <p:blipFill>
          <a:blip r:embed="rId2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Box 8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1:05Z</dcterms:created>
  <dc:creator>Jasmina</dc:creator>
  <dc:description/>
  <dc:language>en-US</dc:language>
  <cp:lastModifiedBy>Pc</cp:lastModifiedBy>
  <dcterms:modified xsi:type="dcterms:W3CDTF">2021-02-09T23:54:27Z</dcterms:modified>
  <cp:revision>906</cp:revision>
  <dc:subject/>
  <dc:title>NOVOROĐENČE</dc:title>
</cp:coreProperties>
</file>